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D8562-9478-40AE-96F6-3B24AEF2A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75C7-1FDE-45D7-A0FE-F0CD5F3BB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E729A-17B4-4383-9E38-3C4015D31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CD150-E716-4F25-A1E7-5EC97DF98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240D-DA14-48C2-BCD0-12613A46D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787DF-CBBB-4EE7-AAA0-D3A6C625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57A1-7FF5-43EE-B7D7-8941D382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9F27B-347F-4DEB-9209-BD367774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CF9D-9601-4129-BC9B-F4FE0BD7C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583-50CF-49CF-8AC6-9FA35B50F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D6F1-42A3-4BC3-A976-BA930AB3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D84B-446A-494E-AAFD-AC971B474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5D94-7CCF-4003-8D98-2D80FF37D0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a4.4</a:t>
            </a:r>
            <a:endParaRPr b="0" lang="en-US" sz="3200" spc="-1" strike="noStrike">
              <a:solidFill>
                <a:srgbClr val="000000"/>
              </a:solidFill>
              <a:latin typeface="Arial"/>
            </a:endParaRPr>
          </a:p>
        </p:txBody>
      </p:sp>
      <p:sp>
        <p:nvSpPr>
          <p:cNvPr id="43" name=""/>
          <p:cNvSpPr txBox="1"/>
          <p:nvPr/>
        </p:nvSpPr>
        <p:spPr>
          <a:xfrm>
            <a:off x="1403280" y="1125360"/>
            <a:ext cx="6191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en does the Pathoge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Win the Battl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96d89b"/>
          </a:solid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r:</a:t>
            </a: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uld antibiotics be used fo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whether you agree with these action or disagree? Record your view by writing A for agree or D for disagree in the back of your book.</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Chickens raised in barns are given antibiotics in their food.</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f you have a cold you should go to the doctor for some antibiotic.</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In some countries ant biotic can be bought over the counter.</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Milking cows may have tubes of antibiotics placed in their udders.</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Some chopping boards have antibiotic/antibacterial substances built into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take a course of antibiotic almost all of the bacteria that are being treated are killed….. but a few will surv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are the bacteria which have mutated.  This means that they have a slightly different pattern of DNA which allows them to resist the antibioti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             </a:t>
            </a:r>
            <a:r>
              <a:rPr b="0" lang="en-US" sz="2400" spc="-1" strike="noStrike">
                <a:solidFill>
                  <a:srgbClr val="990000"/>
                </a:solidFill>
                <a:latin typeface="Arial"/>
              </a:rPr>
              <a:t>These are called </a:t>
            </a:r>
            <a:r>
              <a:rPr b="1" lang="en-US" sz="2400" spc="-1" strike="noStrike" u="sng">
                <a:solidFill>
                  <a:srgbClr val="990000"/>
                </a:solidFill>
                <a:uFillTx/>
                <a:latin typeface="Arial"/>
              </a:rPr>
              <a:t>resistant</a:t>
            </a:r>
            <a:r>
              <a:rPr b="1" lang="en-US" sz="2400" spc="-1" strike="noStrike">
                <a:solidFill>
                  <a:srgbClr val="990000"/>
                </a:solidFill>
                <a:latin typeface="Arial"/>
              </a:rPr>
              <a:t> </a:t>
            </a:r>
            <a:r>
              <a:rPr b="0" lang="en-US" sz="2400" spc="-1" strike="noStrike">
                <a:solidFill>
                  <a:srgbClr val="990000"/>
                </a:solidFill>
                <a:latin typeface="Arial"/>
              </a:rPr>
              <a:t>forms and develop as a result of natural se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nce all the bacteria that have been killed are out of the way the resistant forms have less competition and can thr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549360"/>
            <a:ext cx="784836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ram on page 68 shows how these forms can develop resistance to many different antibiotics.</a:t>
            </a:r>
            <a:endParaRPr b="0" lang="en-US" sz="2400" spc="-1" strike="noStrike">
              <a:solidFill>
                <a:srgbClr val="000000"/>
              </a:solidFill>
              <a:latin typeface="Arial"/>
            </a:endParaRPr>
          </a:p>
        </p:txBody>
      </p:sp>
      <p:sp>
        <p:nvSpPr>
          <p:cNvPr id="49" name=""/>
          <p:cNvSpPr/>
          <p:nvPr/>
        </p:nvSpPr>
        <p:spPr>
          <a:xfrm>
            <a:off x="684360" y="1916280"/>
            <a:ext cx="7991280" cy="459720"/>
          </a:xfrm>
          <a:prstGeom prst="rect">
            <a:avLst/>
          </a:prstGeom>
          <a:solidFill>
            <a:srgbClr val="d6bfd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read the MRSA story.</a:t>
            </a:r>
            <a:endParaRPr b="0" lang="en-US" sz="2400" spc="-1" strike="noStrike">
              <a:solidFill>
                <a:srgbClr val="000000"/>
              </a:solidFill>
              <a:latin typeface="Arial"/>
            </a:endParaRPr>
          </a:p>
        </p:txBody>
      </p:sp>
      <p:sp>
        <p:nvSpPr>
          <p:cNvPr id="50" name=""/>
          <p:cNvSpPr/>
          <p:nvPr/>
        </p:nvSpPr>
        <p:spPr>
          <a:xfrm>
            <a:off x="755640" y="2781360"/>
            <a:ext cx="7848720" cy="2303640"/>
          </a:xfrm>
          <a:prstGeom prst="rect">
            <a:avLst/>
          </a:prstGeom>
          <a:solidFill>
            <a:srgbClr val="e5b9d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Title   </a:t>
            </a:r>
            <a:r>
              <a:rPr b="1" lang="en-US" sz="2400" spc="-1" strike="noStrike">
                <a:solidFill>
                  <a:srgbClr val="000000"/>
                </a:solidFill>
                <a:latin typeface="Arial"/>
              </a:rPr>
              <a:t>‘Changing Pathoge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the question on page 68 in the yellow boxes – use full sentences so that the questions posed is obvio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95280" y="1341360"/>
            <a:ext cx="8209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bl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utant forms of Bacteria and viruses can cause world wide epidemics called PANDEMIC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one has immunity to the new forms so they can spread and cause  huge numbers of people to become ill.</a:t>
            </a:r>
            <a:endParaRPr b="0" lang="en-US" sz="2800" spc="-1" strike="noStrike">
              <a:solidFill>
                <a:srgbClr val="000000"/>
              </a:solidFill>
              <a:latin typeface="Arial"/>
            </a:endParaRPr>
          </a:p>
        </p:txBody>
      </p:sp>
      <p:sp>
        <p:nvSpPr>
          <p:cNvPr id="52" name=""/>
          <p:cNvSpPr/>
          <p:nvPr/>
        </p:nvSpPr>
        <p:spPr>
          <a:xfrm>
            <a:off x="324000" y="404640"/>
            <a:ext cx="856908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Objectives :</a:t>
            </a:r>
            <a:br>
              <a:rPr sz="1800"/>
            </a:br>
            <a:r>
              <a:rPr b="0" lang="en-US" sz="1800" spc="-1" strike="noStrike">
                <a:solidFill>
                  <a:srgbClr val="008000"/>
                </a:solidFill>
                <a:latin typeface="Arial"/>
              </a:rPr>
              <a:t>Pupils will know what is meant by antibiotic resistance.</a:t>
            </a:r>
            <a:br>
              <a:rPr sz="1800"/>
            </a:br>
            <a:r>
              <a:rPr b="0" lang="en-US" sz="1800" spc="-1" strike="noStrike">
                <a:solidFill>
                  <a:srgbClr val="008000"/>
                </a:solidFill>
                <a:latin typeface="Arial"/>
              </a:rPr>
              <a:t>Pupils will learn why mutation causes such problem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 name=""/>
          <p:cNvSpPr/>
          <p:nvPr/>
        </p:nvSpPr>
        <p:spPr>
          <a:xfrm>
            <a:off x="539640" y="4869000"/>
            <a:ext cx="835344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One example of this is the Flu virus which mutates so easily that there is a new strain and therefore a new outbreak almost every year.  The 1918-1919 strain killed between 20 to 40 million people world w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990000"/>
                </a:solidFill>
                <a:latin typeface="Arial"/>
              </a:rPr>
              <a:t>Some times viruses that infect animals can mutate so that they infect humans. The 1918 -1919 flu may have developed from Bird fl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e are currently worried about a new outbreak which Scientists fear could spread from a form of Bird flu currently  affecting South East As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003300"/>
                </a:solidFill>
                <a:latin typeface="Arial"/>
              </a:rPr>
              <a:t>Scientists are trying to develop a vaccine which will protect us from this form.  However until the mutant virus appears it is difficult to develop a SURE vac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e5b9d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tibiotics cannot cure viral diseases – at the moment the best we can do is to give medicines which shorten the time for which you are ill.  These will also reduce the opportunities to infect oth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ne other precaution in the fight against Pandemics is to restrict travel  and isolate sufferers when serious outbreaks occur. This method was used in 2003 when SARS (which is like Flu) appeared in Ch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Now complete the Summary questions at the bottom of page 69.</a:t>
            </a:r>
            <a:endParaRPr b="0" lang="en-US" sz="2400" spc="-1" strike="noStrike">
              <a:solidFill>
                <a:srgbClr val="000000"/>
              </a:solidFill>
              <a:latin typeface="Arial"/>
            </a:endParaRPr>
          </a:p>
        </p:txBody>
      </p:sp>
      <p:sp>
        <p:nvSpPr>
          <p:cNvPr id="58" name=""/>
          <p:cNvSpPr/>
          <p:nvPr/>
        </p:nvSpPr>
        <p:spPr>
          <a:xfrm>
            <a:off x="5056200" y="683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bjectives :</a:t>
            </a:r>
            <a:br>
              <a:rPr sz="2400"/>
            </a:br>
            <a:r>
              <a:rPr b="0" lang="en-US" sz="2000" spc="-1" strike="noStrike">
                <a:solidFill>
                  <a:srgbClr val="008000"/>
                </a:solidFill>
                <a:latin typeface="Arial"/>
              </a:rPr>
              <a:t>Pupils will know what is meant by antibiotic resistance.</a:t>
            </a:r>
            <a:br>
              <a:rPr sz="2000"/>
            </a:br>
            <a:r>
              <a:rPr b="0" lang="en-US" sz="2000" spc="-1" strike="noStrike">
                <a:solidFill>
                  <a:srgbClr val="008000"/>
                </a:solidFill>
                <a:latin typeface="Arial"/>
              </a:rPr>
              <a:t>Pupils will learn why mutation causes such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n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review your opinions from today’s starter.</a:t>
            </a:r>
            <a:endParaRPr b="0" lang="en-US" sz="24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hickens raised in barns are given antibiotics in their food.</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f you have a cold you should go to the doctor for some antibiotic.</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 some countries anti biotic can be bought over the counter.</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ilking cows may have tubes if antibiotics placed in their udders.</a:t>
            </a:r>
            <a:endParaRPr b="0" lang="en-US" sz="2000" spc="-1" strike="noStrike">
              <a:solidFill>
                <a:srgbClr val="000000"/>
              </a:solidFill>
              <a:latin typeface="Arial"/>
            </a:endParaRPr>
          </a:p>
          <a:p>
            <a:pPr marL="609480" indent="-609480">
              <a:spcBef>
                <a:spcPts val="499"/>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Some chopping boards have antibiotic/antibacterial substances built into them.</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Have you changed your mind about any of these issu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Can you explain the science behind your views now?</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5T18:21:36Z</dcterms:created>
  <dc:creator>Pat</dc:creator>
  <dc:description/>
  <dc:language>en-US</dc:language>
  <cp:lastModifiedBy>sthalliwellp</cp:lastModifiedBy>
  <dcterms:modified xsi:type="dcterms:W3CDTF">2006-10-16T08:10:50Z</dcterms:modified>
  <cp:revision>3</cp:revision>
  <dc:subject/>
  <dc:title>Slide 1</dc:title>
</cp:coreProperties>
</file>